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E6706-CE61-45B3-9497-83165121F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23CE7-4ADA-49FB-B34F-B0B59E5CC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5176A-AA4A-4C3E-816B-2EBE94CE4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88CD6-AE9E-49F3-AA73-9CDF7A8FD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52D8A-F24B-4701-B9F8-72C4727EC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F2819-9FBF-416D-907D-EFC576FCB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B03AD-2AF8-4D91-800A-8A2A76BA8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7E28D-8B36-4F89-B9FD-A6E459B41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5CA5C-A078-4800-A4AA-A8F08B40F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E035-9837-44C6-9ABE-397406EDB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905CC-B2EC-4D8A-897A-5DFF37DEA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EEAB5-55F4-498E-A84B-CA1CC95A6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A114-C607-4A6C-83CD-FDD24104C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listbuilder.scholastic.com/content/stores/LibraryStore/pages/images/SLW3.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SLMA Mee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10,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get teachers and students on board to support libraries and librarians (it cannot just be us saying we make a difference).  Barbara Fitzpatr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working with Denise on DPAS II for librarians, and we need to be able to justify why they should hire a librarian and not a para. - Donna R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we need to get to legislators and the governor.  We also need to present to our new Congressman and Senator, both good men that we can talk to.</a:t>
            </a:r>
            <a:br>
              <a:rPr sz="2800"/>
            </a:br>
            <a:br>
              <a:rPr sz="2800"/>
            </a:br>
            <a:r>
              <a:rPr b="0" lang="en-US" sz="2800" spc="-1" strike="noStrike">
                <a:solidFill>
                  <a:srgbClr val="000000"/>
                </a:solidFill>
                <a:latin typeface="Arial"/>
              </a:rPr>
              <a:t>Jack Markell also talked to me once about libraries.   We could talk to him.</a:t>
            </a:r>
            <a:br>
              <a:rPr sz="2800"/>
            </a:br>
            <a:br>
              <a:rPr sz="2800"/>
            </a:br>
            <a:r>
              <a:rPr b="0" lang="en-US" sz="2800" spc="-1" strike="noStrike">
                <a:solidFill>
                  <a:srgbClr val="000000"/>
                </a:solidFill>
                <a:latin typeface="Arial"/>
              </a:rPr>
              <a:t>We also have to light a fire under our students and parents.  They are our most powerful allies. -Marilyn Kulkar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ful peopl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t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article this morning---very well said.  I wish they would have called me.  I would have given them an ear full.  I can’t believe the statements of some of our educators---what are they thinking?  Let’s hang in there.  If there is anything I can do through the library association, just say the w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Tony Marchi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ntendent, Appoquinimink School Distri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South 6th Stre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 Box 401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ssa, DE 19730-401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302-376-410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x     302-378-501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06668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9, 201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Edit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a delight to see school libraries on the front page of the Tuesday </a:t>
            </a:r>
            <a:r>
              <a:rPr b="0" i="1" lang="en-US" sz="1600" spc="-1" strike="noStrike">
                <a:solidFill>
                  <a:srgbClr val="000000"/>
                </a:solidFill>
                <a:latin typeface="Arial"/>
              </a:rPr>
              <a:t>News Journal. </a:t>
            </a:r>
            <a:r>
              <a:rPr b="0" lang="en-US" sz="1600" spc="-1" strike="noStrike">
                <a:solidFill>
                  <a:srgbClr val="000000"/>
                </a:solidFill>
                <a:latin typeface="Arial"/>
              </a:rPr>
              <a:t>  While many fine points were expressed regarding the value of school librarians, the article fell a bit short of the big pict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hing was mentioned about more than sixty studies (especially those by Keith Curry Lance and Ross Todd) showing the relationship between academic achievement and good school libraries.    When one examines the studies it is clear that three elements are present when enhanced achievement is met: (1) a professional school librarian, (2) sufficient materials &amp; technology (both print &amp; nonprint with maintained/up-to-date equipment), and (3) a collaborative effort and defined achievement plan within the school.  When any one of these elements is missing, the model limps.  It is unfortunate that we have many limping schools in Delaware today.  One summary document, </a:t>
            </a:r>
            <a:r>
              <a:rPr b="0" i="1" lang="en-US" sz="1600" spc="-1" strike="noStrike">
                <a:solidFill>
                  <a:srgbClr val="000000"/>
                </a:solidFill>
                <a:latin typeface="Arial"/>
              </a:rPr>
              <a:t>School Libraries Work</a:t>
            </a:r>
            <a:r>
              <a:rPr b="0" lang="en-US" sz="1600" spc="-1" strike="noStrike">
                <a:solidFill>
                  <a:srgbClr val="000000"/>
                </a:solidFill>
                <a:latin typeface="Arial"/>
              </a:rPr>
              <a:t> is available online at </a:t>
            </a:r>
            <a:r>
              <a:rPr b="0" lang="en-US" sz="1600" spc="-1" strike="noStrike" u="sng">
                <a:solidFill>
                  <a:srgbClr val="009999"/>
                </a:solidFill>
                <a:uFillTx/>
                <a:latin typeface="Arial"/>
                <a:hlinkClick r:id="rId1"/>
              </a:rPr>
              <a:t>http://listbuilder.scholastic.com/content/stores/LibraryStore/pages/images/SLW3.pdf</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ould be presumptuous to say that all schools would suddenly have students meeting standards if we put professional librarians in all schools.  Education is much more complicated than that.  However, professional librarians are trained to exert leadership in the information-search process, multiple literacies, and the appropriate use of technologies.  In Delaware today our professional school librarians are immersing themselves in the newly adopted Common Core Standards, understanding how they mesh with </a:t>
            </a:r>
            <a:r>
              <a:rPr b="0" i="1" lang="en-US" sz="1600" spc="-1" strike="noStrike">
                <a:solidFill>
                  <a:srgbClr val="000000"/>
                </a:solidFill>
                <a:latin typeface="Arial"/>
              </a:rPr>
              <a:t>Standards for the 21st Century Learner</a:t>
            </a:r>
            <a:r>
              <a:rPr b="0" lang="en-US" sz="1600" spc="-1" strike="noStrike">
                <a:solidFill>
                  <a:srgbClr val="000000"/>
                </a:solidFill>
                <a:latin typeface="Arial"/>
              </a:rPr>
              <a:t> (from American Association of School Libraria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 who fail to take advantage of personnel who can help with student achievement are shortchanging the childre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Dilln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arilyn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Kenney called me a few weeks ago about his front page story in the News Journal. When I started asking DSEA staff, found that some districts were indeed redefining the library job so that paras could qualify. They would then let the librarian go and hire a para. In Cape Henlopen it appears that the savings are connected to the hiring of their new football coach and his assistants. That’s another s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decided to look into this: if there is a diminution of service, that’s a big problem. And if paras are teaching, as you and other librarians do, then that is against DE law and a big probl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ee from the American Association of School Librarians that they recommend that school libraries be staffed with one certified librarian and two par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certainly a body of knowledge associated with school librarians, evidenced by the bachelors and masters degrees one can obtain in library science, as well as the National Board certification that is available to school librarians (Library Media specialists who teach students ages 3-18+ and know the range of information literacy, instructional collaboration and the integration of technology).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NBPTS web site, 21 Delaware school librarians have achieved this certification!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bpts.org/nbct_directory_results.cfm?start_with=&amp;state=DE&amp;school_city=&amp;school_dist=&amp;year=&amp;name=&amp;cert_description=Library+Media%2FEarly+Childhood+through+Young+Adulthood&amp;x=51&amp;y=9&amp;per_page=all</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to me that the argument that paras can do the same work, as several people in today’s NJ story said, and provide the same service, is wrong.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Could you possibly describe for me how library service to students/staff is diminished? And include in that the types of lessons you teach to stud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ould be a big help as we figure out the best way to advocate for GREAT SCHOOLS FOR EVERY CHILD.</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ra of education reform and closing the achievement gap and eliminating “have nots,” this is what districts 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en I emailed over to DoE and asked to talk to the person who dealt with librarians/media specialists, I got an email back from Dan Cruce who said staffing decisions were local decision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mela T. Nichols</a:t>
            </a:r>
            <a:br>
              <a:rPr sz="1200"/>
            </a:br>
            <a:r>
              <a:rPr b="0" lang="en-US" sz="1200" spc="-1" strike="noStrike">
                <a:solidFill>
                  <a:srgbClr val="000000"/>
                </a:solidFill>
                <a:latin typeface="Arial"/>
              </a:rPr>
              <a:t>Director of Communication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ware State Education Associ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6 E. Water S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ver, DE 199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ormation/Resource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dleadershipretreat.wikispaces.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slmawiki.wikispaces.com/Advocac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listbuilder.scholastic.com/content/stores/LibraryStore/pages/images/SLW3.pd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 from our member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o formulate some strategies, find powerful advocates, create a sense of urgency, and remind folks to keep statistics (maybe they need help with that?), and keep up with the research.  AASL School Libraries Count 2010 is out there and says that we are teaching an average 15 hours a week.  What are we doing in Delaware to support our cause...prove our worth?  Ed Hockersmi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7:18:35Z</dcterms:created>
  <dc:creator>marilyn.kulkarni</dc:creator>
  <dc:description/>
  <dc:language>en-US</dc:language>
  <cp:lastModifiedBy>marilyn.kulkarni</cp:lastModifiedBy>
  <dcterms:modified xsi:type="dcterms:W3CDTF">2010-11-10T17:41:15Z</dcterms:modified>
  <cp:revision>3</cp:revision>
  <dc:subject/>
  <dc:title>DSLMA Meeting</dc:title>
</cp:coreProperties>
</file>